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084B-2390-4D87-B773-89DD8B354557}" type="datetime">
              <a:rPr b="0" lang="tr-TR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Hazırlayan:Murat GÜ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0298-4D4F-4E4D-897C-4011B8D469D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69BC-5863-40FF-9A7C-2EE21CD144D3}" type="datetime">
              <a:rPr b="0" lang="tr-TR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Hazırlayan:Murat GÜ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9030-3B14-4B9D-B4CE-8ADB75E8544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397-EF35-4CC1-9DA1-B234265E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EC0-3F8A-419E-91A6-063FF2A8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AEB-69DB-4B26-9685-09598288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447-FB35-457E-8BF1-1EBB617C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8352-DC25-41B9-B551-9417DD0E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1E0B-57A3-4DF2-A874-A0CC2F9B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9FEE-B51A-455D-AC5D-A394C6D3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9CA6-236B-457A-BC5D-0FFCB96D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F8C7-9119-45D7-BBC9-145BEEE6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A1BA-F4DB-47C4-8038-7C9190AE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A4DE-09C5-42F2-97FB-86C2D1FD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5C9-A90A-40DD-87C1-A7C1C7E5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88A4-4FC4-4A1E-B432-50010BB3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449-675D-4B8F-9C5B-6BBF6CAA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AB80-3981-4F2A-BDE8-7CCE9239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C104-DADC-45E7-84F1-EB3FDB10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83FD-5194-4932-A31F-D7BC7999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64A-40CC-4F6A-9D01-84A9C328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578-F0AD-4440-A042-46DFC4A2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E5F-B626-467C-90AD-635D5753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63B-096E-4291-AC78-9719A01F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A3F-EDD2-4555-B67C-8DA75E71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0F1-1FC3-4A67-9DA7-24F3B8EB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AD4-AD2D-4FFA-BD1B-D2C8E13F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4ED8-EEF0-4EF3-A794-864FC8AA91FE}" type="datetime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6D0F-50D9-4959-A2E1-346BA8791191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184A-282B-4BD2-8BC9-D3BD4437A20E}" type="datetime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F8CD-4AF9-448C-B16C-8B5E78A8BBA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75BC-C9EA-4686-B3EE-B2A75958D51F}" type="slidenum">
              <a:rPr b="0" lang="tr-T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47920"/>
          </a:xfrm>
          <a:prstGeom prst="rect">
            <a:avLst/>
          </a:prstGeom>
          <a:solidFill>
            <a:srgbClr val="ffef66"/>
          </a:solidFill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300" spc="-1" strike="noStrike">
                <a:solidFill>
                  <a:srgbClr val="000000"/>
                </a:solidFill>
                <a:latin typeface="Engravers MT"/>
              </a:rPr>
              <a:t>KÜTÜPHANELER HAFTASI</a:t>
            </a:r>
            <a:br>
              <a:rPr sz="4300"/>
            </a:br>
            <a:r>
              <a:rPr b="0" i="1" lang="tr-TR" sz="3100" spc="-1" strike="noStrike">
                <a:solidFill>
                  <a:srgbClr val="000000"/>
                </a:solidFill>
                <a:latin typeface="Comic Sans MS"/>
              </a:rPr>
              <a:t>(Mart ayının son haftası)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d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8893080" cy="1368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0000"/>
                </a:solidFill>
                <a:latin typeface="Comic Sans MS"/>
              </a:rPr>
              <a:t>TEŞEKKÜRLE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Slayt Numarası Yer Tutucusu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722F-9729-4B54-B18A-EF8D72D2E966}" type="slidenum">
              <a:rPr b="0" lang="tr-T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000000"/>
                </a:solidFill>
                <a:uFillTx/>
                <a:latin typeface="Comic Sans MS"/>
              </a:rPr>
              <a:t>HAFTANIN ÖNEM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Millî Eğitim Bakanlığı, Mart ayının son pazartesi gün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başlayan haftanın Kütüphane Haftası olara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değerlendirilmesini kararlaştırmıştır. Haf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süresince kütüphanenin önemi anlatılı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Kütüphaneciliğin sorunları kamu oyuna duyurulu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Halk, kütüphanelerin gelişmesi için bilinçlendiril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kullarımızda kütüphanenin yararlarından söz edil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Kütüphanelerde uyulması gerekli kurallar öğretili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d"/>
    <p:sndAc>
      <p:stSnd>
        <p:snd r:embed="rId1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Slayt Numarası Yer Tutucusu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000000"/>
                </a:solidFill>
                <a:uFillTx/>
                <a:latin typeface="Comic Sans MS"/>
              </a:rPr>
              <a:t>KÜTÜPHANE KAVRAM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Kitabın yararlarının anlaşılması 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sayılarının çoğalması sonucu kitaplık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oluştu. Kitaplıkların gelişmesi 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kütüphaneler meydana geldi. Herkes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yararlanması okuması, başvurması iç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kurulan, içinde kitaplar bulunan binay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Comic Sans MS"/>
              </a:rPr>
              <a:t>kütüphane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deni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d"/>
    <p:sndAc>
      <p:stSnd>
        <p:snd r:embed="rId1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000000"/>
                </a:solidFill>
                <a:uFillTx/>
                <a:latin typeface="Comic Sans MS"/>
              </a:rPr>
              <a:t>KÜTÜPHANELERİN TARİH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Kütüphaneler eski çağlardan b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insanlığın hizmetindedir. Eldeki bilgilere gö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ilk kütüphane, Asurlular zamanın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kurulmuştur. Osmanlı imparatorluğ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döneminde de kitaba ve kütüphaneye ön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verilirdi. O dönemden zamanımıza kad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gelen büyük kütüphaneler vardı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d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000000"/>
                </a:solidFill>
                <a:uFillTx/>
                <a:latin typeface="Comic Sans MS"/>
              </a:rPr>
              <a:t>KÜTÜPHANELERİN ÖNEM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Yaşadığımız yüzyıl bilgi, ilerleme dönemid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Kitaplar bilime giden yoldur. Çağımızı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buluşlarını kitap, dergi gazete gibi yayı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rganlarından izleriz. Okuduğumuz kitapla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dergiler, gazeteler bilgilerimizi artırır. Biz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dünyadaki gelişmelerden, değişmelerd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haberdar eder. Kitaplar sevgili dostlarımızdı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Kitaplıklar, kütüphaneler kitapların bir ar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bulunduğu yerlerdi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smile13"/>
          <p:cNvPicPr/>
          <p:nvPr/>
        </p:nvPicPr>
        <p:blipFill>
          <a:blip r:embed="rId1"/>
          <a:stretch/>
        </p:blipFill>
        <p:spPr>
          <a:xfrm>
            <a:off x="179280" y="404640"/>
            <a:ext cx="125892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 u="sng">
                <a:solidFill>
                  <a:srgbClr val="000000"/>
                </a:solidFill>
                <a:uFillTx/>
                <a:latin typeface="Comic Sans MS"/>
              </a:rPr>
              <a:t>KÜTÜPHANEDE UYULMASI GEREKEN KURALL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696080" cy="38876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1. Kütüphaneye ayakkabılar paspasa silinerek girilmelidi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2. Palto, pardösü, manto v. b. vestiyere bırakılmalıdı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3. Kimlik, ilgili memura istemeden teslim edilmelidi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4. Kütüphaneden alınacak kitabın nasıl aranacağı bilinmiyorsa ilgili memurlardan sorulmalıdı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5. İstenen kitap için fış doldurulmalıdı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6. Yerimize oturup kitabın gelmesi beklenmelidi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7. Okuma salonunda kimse rahatsız edilmemelidi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8. Kitap sayfaları sessiz çevrilmelidi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9. Kütüphane salonunda sessiz yürünmelidi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10. Kitapların kapağı, sayfaları çizilmemeli, yırtılmamalıdı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11. Kütüphanenin okuma salonunda hiçbir şekilde sigara içilmemelidir, sakız çiğnenmemelidi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smile13"/>
          <p:cNvPicPr/>
          <p:nvPr/>
        </p:nvPicPr>
        <p:blipFill>
          <a:blip r:embed="rId1"/>
          <a:stretch/>
        </p:blipFill>
        <p:spPr>
          <a:xfrm>
            <a:off x="0" y="189000"/>
            <a:ext cx="125892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000000"/>
                </a:solidFill>
                <a:uFillTx/>
                <a:latin typeface="Comic Sans MS"/>
              </a:rPr>
              <a:t>BAŞLICA KÜTÜPHANE TÜRLER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400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1-Milli Kütüphanel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2-Üniversite Kütüphanele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3-Halk Kütüphanele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4-Okul Kütüphanele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5-Özel Konulu Kütüphanel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smile13"/>
          <p:cNvPicPr/>
          <p:nvPr/>
        </p:nvPicPr>
        <p:blipFill>
          <a:blip r:embed="rId1"/>
          <a:stretch/>
        </p:blipFill>
        <p:spPr>
          <a:xfrm>
            <a:off x="0" y="189000"/>
            <a:ext cx="125892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arrow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000000"/>
                </a:solidFill>
                <a:uFillTx/>
                <a:latin typeface="Comic Sans MS"/>
              </a:rPr>
              <a:t>KÜTÜPHANEYİ ETKİLİ KULLAN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*Hazırlık ve konu seçi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*Kaynakları seç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*Malzemeleri bul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*Kaynakları değerlendir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*Ödevi yazma ve kaynakça bilgisi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erl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smile13"/>
          <p:cNvPicPr/>
          <p:nvPr/>
        </p:nvPicPr>
        <p:blipFill>
          <a:blip r:embed="rId1"/>
          <a:stretch/>
        </p:blipFill>
        <p:spPr>
          <a:xfrm>
            <a:off x="0" y="260280"/>
            <a:ext cx="1258920" cy="7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687096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000000"/>
                </a:solidFill>
                <a:uFillTx/>
                <a:latin typeface="Comic Sans MS"/>
              </a:rPr>
              <a:t>ATATÜRK VE KİT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7696080" cy="4537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Atatürk'ün hizmetinde bulunanlardan Cemal Granada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Atatürk'le Vasıf Çınar arasında geçen bir konuşmayı anlatırken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O'ndaki okuma alışkanlığının çocuk yaşlarında kazanıldığını 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belirler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Boş zamanlarında Atatürk'ün elinden tarihle ilgili kitapları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düşmediğini hatırlarım. Bir gün yine Atatürk, tarihle ilgili kalı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bir kitap okuyordu. Öylesine dalmıştı ki, çevresini görecek hali yoktu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Bir sürü yurt meselesi dururken Devlet Başkanının kendini tarih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vermesi, Vasıf Çınar'ın biraz canını sıkmış olmalı ki, Atatürk'e şöy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dediğini duydum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- Paşam!.. Tarihle uğraşıp kafanı yorma... 19 Mayıs'ta kitap okuyarak mı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Samsun'a çıktın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Atatürk, Vasıf Çınar'ın bu çok samimi yakınmasına gülümseyerek şöy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karşılık verdi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- Ben çocukken fakirdim. İki kuruş elime geçince bunun bir kuruşunu kitab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verirdim. Eğer böyle olmasaydım, bu yaptıklarımın hiç birisini yapamazdım</a:t>
            </a:r>
            <a:r>
              <a:rPr b="1" lang="tr-T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smile13"/>
          <p:cNvPicPr/>
          <p:nvPr/>
        </p:nvPicPr>
        <p:blipFill>
          <a:blip r:embed="rId1"/>
          <a:stretch/>
        </p:blipFill>
        <p:spPr>
          <a:xfrm>
            <a:off x="0" y="189000"/>
            <a:ext cx="125892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0:33:12Z</dcterms:created>
  <dc:creator>https://slaytprogrami.com/</dc:creator>
  <dc:description>dersimiz.com</dc:description>
  <cp:keywords>https://slaytprogrami.com/</cp:keywords>
  <dc:language>en-US</dc:language>
  <cp:lastModifiedBy>Ahmet Yılmaz</cp:lastModifiedBy>
  <dcterms:modified xsi:type="dcterms:W3CDTF">2022-03-17T11:07:21Z</dcterms:modified>
  <cp:revision>3</cp:revision>
  <dc:subject>https://slaytprogrami.com/</dc:subject>
  <dc:title>https://slaytprogrami.com/</dc:title>
</cp:coreProperties>
</file>