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26E4-9896-4656-B8BC-729C0A87C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77BD-6432-468C-AB20-1A6D55486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F562-4034-4DAF-AFA3-2D064986C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78BC-2A6A-42F1-A73D-19563C8F6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0F736-A593-4AC3-9198-D478DD900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9E6D2-6F0B-43E5-8CE6-AF216DA61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85C30-D070-4509-B047-62EF9E3D2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2386A-078A-4B71-A19D-0D7D80A77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D5548-B205-489B-879A-4358A80EC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88920-F168-4E0F-8ECE-90C8A54FB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D31C6-4787-4DA7-91CB-F30E193D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7EF8-1AE8-4698-8D69-F076E00BA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2EE23-6F7A-4CEB-BF92-C8188A2A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5053E-BA27-4C7A-8565-8039F0D8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787FD-87FB-40DE-8B07-716F4BB56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89E50-70AD-4571-81D0-E99F4C75D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9782F-510C-4DDA-ABF6-4D84580F2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4B35-B9CE-4142-B908-30CD95938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C1CB-6611-443B-97F7-B020691AE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EA16-D53A-44B2-9E61-374F706E5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FD10-ED51-48BB-B7D2-F62B87473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5DBD-C96C-4FED-993D-41F97D4A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0753-2E63-4F8B-8E82-D5B49454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191E-F375-4E06-91DC-2CBFABA2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D843C-918A-4324-A97D-73E588E9185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7B167-799D-40DA-8542-97583093419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lbertus Extra Bold"/>
              </a:rPr>
              <a:t>YAZIM KURALLAR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1200" spc="-1" strike="noStrike">
                <a:solidFill>
                  <a:srgbClr val="ff0000"/>
                </a:solidFill>
                <a:latin typeface="Tahoma"/>
              </a:rPr>
              <a:t>TÜRKÇE</a:t>
            </a:r>
            <a:endParaRPr b="1" lang="en-US" sz="1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entury Gothic"/>
              </a:rPr>
              <a:t>EKEYLEMİN YAZIM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Ekeylem sözcüklere bitişik de ayrı da yazılabili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486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94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948600" indent="-1897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stay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mış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sta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imiş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48600" indent="-1897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elecek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t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elecek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id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48600" indent="-1897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rgun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d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rgun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id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48600" indent="-1897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kıyor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muş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kıyor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imiş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48600" indent="-1897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ider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s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ider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i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48600" indent="-1897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ylül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s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ylül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i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48600" indent="-1897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ğuk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değild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ğuk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değil id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48600" indent="-1897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ilmiyor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değildi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ilmiyor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deği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id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4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48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9486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lvl="2" marL="9486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lvl="2" marL="9486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entury Gothic"/>
              </a:rPr>
              <a:t>“</a:t>
            </a:r>
            <a:r>
              <a:rPr b="1" lang="en-US" sz="4400" spc="-1" strike="noStrike">
                <a:solidFill>
                  <a:srgbClr val="ff3300"/>
                </a:solidFill>
                <a:latin typeface="Century Gothic"/>
              </a:rPr>
              <a:t>DE, DA”NIN  YAZIM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00"/>
                </a:solidFill>
                <a:latin typeface="Tahoma"/>
              </a:rPr>
              <a:t>Bağlaç olan “de, da” her zaman ayrı yazılır ve “te, ta” şekli yoktur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00"/>
                </a:solidFill>
                <a:latin typeface="Tahoma"/>
              </a:rPr>
              <a:t>Hal eki olan “-de, -da” her zaman bitişik yazılır ve “-te, -ta” şekli vardır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Yarın bize sen </a:t>
            </a:r>
            <a:r>
              <a:rPr b="0" lang="tr-TR" sz="2000" spc="-1" strike="noStrike">
                <a:solidFill>
                  <a:srgbClr val="ff3300"/>
                </a:solidFill>
                <a:latin typeface="Tahoma"/>
              </a:rPr>
              <a:t>de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 gelirsi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Duy </a:t>
            </a:r>
            <a:r>
              <a:rPr b="0" lang="tr-TR" sz="2000" spc="-1" strike="noStrike">
                <a:solidFill>
                  <a:srgbClr val="ff3300"/>
                </a:solidFill>
                <a:latin typeface="Tahoma"/>
              </a:rPr>
              <a:t>da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 inanm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Sorular hiç </a:t>
            </a:r>
            <a:r>
              <a:rPr b="0" lang="tr-TR" sz="2000" spc="-1" strike="noStrike">
                <a:solidFill>
                  <a:srgbClr val="ff3300"/>
                </a:solidFill>
                <a:latin typeface="Tahoma"/>
              </a:rPr>
              <a:t>de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 zor değildi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Demek ayrılmak </a:t>
            </a:r>
            <a:r>
              <a:rPr b="0" lang="tr-TR" sz="2000" spc="-1" strike="noStrike">
                <a:solidFill>
                  <a:srgbClr val="ff3300"/>
                </a:solidFill>
                <a:latin typeface="Tahoma"/>
              </a:rPr>
              <a:t>da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 varmış kaderd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Bu akşam bizim ev</a:t>
            </a:r>
            <a:r>
              <a:rPr b="0" lang="tr-TR" sz="2000" spc="-1" strike="noStrike">
                <a:solidFill>
                  <a:srgbClr val="ff3300"/>
                </a:solidFill>
                <a:latin typeface="Tahoma"/>
              </a:rPr>
              <a:t>de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 kalır, ders çalışırız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Dün okul</a:t>
            </a:r>
            <a:r>
              <a:rPr b="0" lang="tr-TR" sz="2000" spc="-1" strike="noStrike">
                <a:solidFill>
                  <a:srgbClr val="ff3300"/>
                </a:solidFill>
                <a:latin typeface="Tahoma"/>
              </a:rPr>
              <a:t>da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 sınavımız vardı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Akşamüstü sokak</a:t>
            </a:r>
            <a:r>
              <a:rPr b="0" lang="tr-TR" sz="2000" spc="-1" strike="noStrike">
                <a:solidFill>
                  <a:srgbClr val="ff3300"/>
                </a:solidFill>
                <a:latin typeface="Tahoma"/>
              </a:rPr>
              <a:t>ta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 bir gürültü oldu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Seni giriş</a:t>
            </a:r>
            <a:r>
              <a:rPr b="0" lang="tr-TR" sz="2000" spc="-1" strike="noStrike">
                <a:solidFill>
                  <a:srgbClr val="ff3300"/>
                </a:solidFill>
                <a:latin typeface="Tahoma"/>
              </a:rPr>
              <a:t>te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 bekliyor olacağım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entury Gothic"/>
              </a:rPr>
              <a:t>“</a:t>
            </a:r>
            <a:r>
              <a:rPr b="1" lang="en-US" sz="4400" spc="-1" strike="noStrike">
                <a:solidFill>
                  <a:srgbClr val="ff3300"/>
                </a:solidFill>
                <a:latin typeface="Century Gothic"/>
              </a:rPr>
              <a:t>Kİ”NİN  YAZIM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Bağlaç olan “ki” her zaman ayrı yazılır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Sıfat yapım eki ve ilgi zamiri olan “-ki” bitişik yazılı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uydum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ki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unutmuşsun, gözlerimin rengini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ylül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ki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en sevdiğim aydır benim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kşam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ki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maça sınıfça gideceğiz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ahçede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ki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güllere gözü gibi bakıyordu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ün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kü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sınav çok kolaydı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ugün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kü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toplantı erken bitti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enim kitabım evde kalmış, senin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ki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burada mı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akırköy’ün sahili Kadıköy’ün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ki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den daha güze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entury Gothic"/>
              </a:rPr>
              <a:t>“</a:t>
            </a:r>
            <a:r>
              <a:rPr b="1" lang="en-US" sz="4400" spc="-1" strike="noStrike">
                <a:solidFill>
                  <a:srgbClr val="ff3300"/>
                </a:solidFill>
                <a:latin typeface="Century Gothic"/>
              </a:rPr>
              <a:t>MI, Mİ”NİN YAZIM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Kendinden önceki sözcüğe her zaman ayrı yazılır; fakat kendinden sonra gelen eklere bitişik yazılı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kşam bize uğrayacak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mısı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ün beni arayan sen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miydi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kardeşin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miydi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uraları daha önce görmüş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müydünüz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Yaz geldi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mi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yaylalara çıkardık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irden hepimize bağırmaya başlamasın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mı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ünü gününe çalıştınız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mı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sınavı kazanırsınız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Çocuğun uzun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mu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uzun saçları vardı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vsim yaz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mı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güz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mü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anlayamadım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entury Gothic"/>
              </a:rPr>
              <a:t>İKİLEMELERİN YAZIM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İkilemeler ayrı yazılır.</a:t>
            </a: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948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48600" indent="-1897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ş baş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 e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48600" indent="-1897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üz yüz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an ya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48600" indent="-1897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ç içe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ş peş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48600" indent="-1897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arım yamalak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ğru dürü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48600" indent="-1897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re serp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üşe kalk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48600" indent="-1897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üle gül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te kak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48600" indent="-1897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t ard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a sı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48600" indent="-1897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oy bo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z buz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48600" indent="-1897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arman çorma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açma sap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48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948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9486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lvl="2" marL="9486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lvl="2" marL="9486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entury Gothic"/>
              </a:rPr>
              <a:t>PEKİŞTİRMELERİN YAZIM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Pekiştirilmiş sözcükler bitişik yazılır.</a:t>
            </a: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smav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apayalnız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ırılsıkla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apsarı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apasağlam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çırılçıpla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emyeşi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çepeçevr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armakarışı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ıpıssız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üpegündüz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rmadağını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ümdüz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üpedüz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rmadum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ımsıkı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ıpatı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ramparç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entury Gothic"/>
              </a:rPr>
              <a:t>BİLEŞİK EYLEMLERİN YAZIM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Yardımcı eylemle oluşturulurken ses olayına uğrayan eylemler, kurallı bileşik eylemler, anlamca kaynaşmış bazı eylemler bitişik yazılı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aybol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elebil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şvur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isset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çıkıver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azgeç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ehrol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üşeyaz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arsay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ffet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kakal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öngör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abreyle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üregel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ver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entury Gothic"/>
              </a:rPr>
              <a:t>HER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erkes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er şe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12400" indent="-212400">
              <a:lnSpc>
                <a:spcPct val="8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erhangi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er bir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12400" indent="-212400">
              <a:lnSpc>
                <a:spcPct val="8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erhalde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er an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2" marL="708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er gü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2" marL="708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er y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2" marL="708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er yan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2" marL="708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er ne kada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2" marL="708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2" marL="708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2" marL="708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708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708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708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lvl="2" marL="708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lvl="2" marL="708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2124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entury Gothic"/>
              </a:rPr>
              <a:t>HİÇ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8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içbir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iç kims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2" marL="9255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iç yokt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2" marL="9255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iç mi hiç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2" marL="9255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iç değils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2" marL="9255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2" marL="925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925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925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25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925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9255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lvl="2" marL="9255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lvl="2" marL="9255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entury Gothic"/>
              </a:rPr>
              <a:t>BİR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irtakım 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(blg. sft.)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ir takım 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(sayı sf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irebir 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(etkili)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ire bir 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(görüşm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irdenbire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ir gü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irbirine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ir şe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irdirbir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ir 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iraz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ir a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irçok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ir ara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irkaç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ir kısı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ir tek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879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1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2" marL="879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1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2" marL="879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2" marL="879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lvl="2" marL="8798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  <a:p>
            <a:pPr lvl="2" marL="8798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  <a:p>
            <a:pPr lvl="2" marL="87984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00" spc="-1" strike="noStrike">
              <a:solidFill>
                <a:srgbClr val="ffffff"/>
              </a:solidFill>
              <a:latin typeface="Tahoma"/>
            </a:endParaRPr>
          </a:p>
          <a:p>
            <a:pPr lvl="2" marL="87984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Tahoma"/>
            </a:endParaRPr>
          </a:p>
          <a:p>
            <a:pPr lvl="2" marL="87984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Tahoma"/>
            </a:endParaRPr>
          </a:p>
          <a:p>
            <a:pPr marL="2638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entury Gothic"/>
              </a:rPr>
              <a:t>BÜYÜK HARFLERİN KULLANIMI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ümleler , dizel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ın sınavımız  va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Ö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ğretmen bize : “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l az önce çaldı.” ded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şam iniyor yine şehirlere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üzne boyandı gökyüz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Hitapla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ım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neciğim,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vgili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sr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yın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kanım,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ğerli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kadaşl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entury Gothic"/>
              </a:rPr>
              <a:t>BÜYÜK HARFLERİN KULLANIMI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Tahoma"/>
              </a:rPr>
              <a:t>Özel Adl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İnsan, hayvan adlar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R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eşat 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N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uri 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G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üntekin, 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M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uallim 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N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aci, 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K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arabaş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Kitap, dergi, gazete adlar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Ç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alıkuşu, 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Y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aban, 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Z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irve, 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F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inal, 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H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ürriyet, 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Z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am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Millet, dil, din, mezhep adlar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T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ürkler, 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İ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ngilizce, 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İ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slamiyet, 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H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ıristiyanlı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Devlet, gezegen, yıldız adlar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T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ürkiye 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umhuriyeti, 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M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ars, 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V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enüs, 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H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alle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entury Gothic"/>
              </a:rPr>
              <a:t>BÜYÜK HARFLERİN KULLANIMI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Özel Ad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İl, ilçe, köy adları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İ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anbul,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lova,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yvalık,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G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önen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ltaniye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öy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Mahalle, cadde, sokak adları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vizlik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hallesi,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guvan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ddesi,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ylül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kağı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Dağ, deniz, göl, ırmak, ova adları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ğrı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ğı,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deniz,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e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izi,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G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ölü,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z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G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ölü,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karya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mağı,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nya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ası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Kurum, kuruluş adları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ürk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l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rumu,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rmara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Ü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iversitesi,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ızıla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entury Gothic"/>
              </a:rPr>
              <a:t>BÜYÜK HARFLERİN KULLANIMI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Tahoma"/>
              </a:rPr>
              <a:t>Unvanlar, saygı sözcükleri, takma adl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A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vukat Hasan 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B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ey, 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D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oktor Emel 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H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anım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K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asap Niyazi, 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B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akkal Ahmet 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A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m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Osman 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Ç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avuş, Selver 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H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emşi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Hayriye 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T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eyze, İlhan 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A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mca, Fahriye 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A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b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74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33cc"/>
                </a:solidFill>
                <a:latin typeface="Tahoma"/>
              </a:rPr>
              <a:t>UYAR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742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33cc"/>
                </a:solidFill>
                <a:latin typeface="Tahoma"/>
              </a:rPr>
              <a:t>Akrabalık ilişkilerinde sıfatlar küçük harfle başl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742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Yarın Ayşe </a:t>
            </a:r>
            <a:r>
              <a:rPr b="0" lang="tr-TR" sz="2000" spc="-1" strike="noStrike">
                <a:solidFill>
                  <a:srgbClr val="ff3300"/>
                </a:solidFill>
                <a:latin typeface="Tahoma"/>
              </a:rPr>
              <a:t>t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eyzeme gideceğim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742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Onur, Kemal </a:t>
            </a:r>
            <a:r>
              <a:rPr b="0" lang="tr-TR" sz="2000" spc="-1" strike="noStrike">
                <a:solidFill>
                  <a:srgbClr val="ff3300"/>
                </a:solidFill>
                <a:latin typeface="Tahoma"/>
              </a:rPr>
              <a:t>d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ayısını çok severdi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742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742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entury Gothic"/>
              </a:rPr>
              <a:t>BÜYÜK HARFLERİN KULLANIMI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Gün, ay adları bir tarihe bağlıysa büyük harfle başl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27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lül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1974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rşem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yıs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200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3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ım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z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r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lül buralara geliri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Önümüzdeki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anın ilk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ması buluşacağız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entury Gothic"/>
              </a:rPr>
              <a:t>BÜYÜK HARFLERİN KULLANIMI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Yön adları başta olursa büyük, sonda olursa küçük harfle başl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zey Afrika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frika’nın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zey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tı Karadeniz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aradeniz’in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tısı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G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üneydoğu Anadolu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adolu’nun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g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üneydoğus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zeybatı Amerika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merika’nın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zeybatısı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entury Gothic"/>
              </a:rPr>
              <a:t>SAYILARIN YAZIM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Sayılar, ticari işlemler dışında ayrı yazılır.Sayılara getirilen ekler ünsüz uyumuna uyar ve kesmeyle ayrılır. Büyük sayıların yazımında sıfırlı kısımlar yazıyla gösterilebili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Daha </a:t>
            </a:r>
            <a:r>
              <a:rPr b="0" lang="tr-TR" sz="2000" spc="-1" strike="noStrike">
                <a:solidFill>
                  <a:srgbClr val="ff3300"/>
                </a:solidFill>
                <a:latin typeface="Tahoma"/>
              </a:rPr>
              <a:t>on yedi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 yaşındayım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Dün </a:t>
            </a:r>
            <a:r>
              <a:rPr b="0" lang="tr-TR" sz="2000" spc="-1" strike="noStrike">
                <a:solidFill>
                  <a:srgbClr val="ff3300"/>
                </a:solidFill>
                <a:latin typeface="Tahoma"/>
              </a:rPr>
              <a:t>üç yüz elli altı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 soru çözdüm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Sınava </a:t>
            </a:r>
            <a:r>
              <a:rPr b="0" lang="tr-TR" sz="2000" spc="-1" strike="noStrike">
                <a:solidFill>
                  <a:srgbClr val="ff3300"/>
                </a:solidFill>
                <a:latin typeface="Tahoma"/>
              </a:rPr>
              <a:t>bir milyon yedi yüz altmış bin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 öğrenci girdi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1974’</a:t>
            </a:r>
            <a:r>
              <a:rPr b="0" lang="tr-TR" sz="2000" spc="-1" strike="noStrike">
                <a:solidFill>
                  <a:srgbClr val="ff3300"/>
                </a:solidFill>
                <a:latin typeface="Tahoma"/>
              </a:rPr>
              <a:t>te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, 3’</a:t>
            </a:r>
            <a:r>
              <a:rPr b="0" lang="tr-TR" sz="2000" spc="-1" strike="noStrike">
                <a:solidFill>
                  <a:srgbClr val="ff3300"/>
                </a:solidFill>
                <a:latin typeface="Tahoma"/>
              </a:rPr>
              <a:t>ten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, 17’</a:t>
            </a:r>
            <a:r>
              <a:rPr b="0" lang="tr-TR" sz="2000" spc="-1" strike="noStrike">
                <a:solidFill>
                  <a:srgbClr val="ff3300"/>
                </a:solidFill>
                <a:latin typeface="Tahoma"/>
              </a:rPr>
              <a:t>nci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23’</a:t>
            </a:r>
            <a:r>
              <a:rPr b="0" lang="tr-TR" sz="2000" spc="-1" strike="noStrike">
                <a:solidFill>
                  <a:srgbClr val="ff3300"/>
                </a:solidFill>
                <a:latin typeface="Tahoma"/>
              </a:rPr>
              <a:t>üncü, 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11.55</a:t>
            </a:r>
            <a:r>
              <a:rPr b="0" lang="tr-TR" sz="2000" spc="-1" strike="noStrike">
                <a:solidFill>
                  <a:srgbClr val="ff3300"/>
                </a:solidFill>
                <a:latin typeface="Tahoma"/>
              </a:rPr>
              <a:t>’te, 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12</a:t>
            </a:r>
            <a:r>
              <a:rPr b="0" lang="tr-TR" sz="2000" spc="-1" strike="noStrike">
                <a:solidFill>
                  <a:srgbClr val="ff3300"/>
                </a:solidFill>
                <a:latin typeface="Tahoma"/>
              </a:rPr>
              <a:t>’y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5 </a:t>
            </a:r>
            <a:r>
              <a:rPr b="0" lang="tr-TR" sz="2000" spc="-1" strike="noStrike">
                <a:solidFill>
                  <a:srgbClr val="ff3300"/>
                </a:solidFill>
                <a:latin typeface="Tahoma"/>
              </a:rPr>
              <a:t>milyon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, 8 </a:t>
            </a:r>
            <a:r>
              <a:rPr b="0" lang="tr-TR" sz="2000" spc="-1" strike="noStrike">
                <a:solidFill>
                  <a:srgbClr val="ff3300"/>
                </a:solidFill>
                <a:latin typeface="Tahoma"/>
              </a:rPr>
              <a:t>milyar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, 20 </a:t>
            </a:r>
            <a:r>
              <a:rPr b="0" lang="tr-TR" sz="2000" spc="-1" strike="noStrike">
                <a:solidFill>
                  <a:srgbClr val="ff3300"/>
                </a:solidFill>
                <a:latin typeface="Tahoma"/>
              </a:rPr>
              <a:t>trily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33cc"/>
                </a:solidFill>
                <a:latin typeface="Tahoma"/>
              </a:rPr>
              <a:t>UYARI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Çek, senet, fatura, dekont vb. ticari evraklarda sayıl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bitişik yazılı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3300"/>
                </a:solidFill>
                <a:latin typeface="Tahoma"/>
              </a:rPr>
              <a:t>altmışbeşmilyon, sekizyüzseksenaltıb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entury Gothic"/>
              </a:rPr>
              <a:t>KISALTMALARIN YAZIM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Kısaltmalara getirilen ekler okunuşa göre getirilir ve kesmeyle ayrılır.Harfler arasında nokta kullanılmaz.</a:t>
            </a:r>
            <a:r>
              <a:rPr b="0" lang="tr-TR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 u="sng">
                <a:solidFill>
                  <a:srgbClr val="ffffff"/>
                </a:solidFill>
                <a:uFillTx/>
                <a:latin typeface="Tahoma"/>
              </a:rPr>
              <a:t>DOĞRU</a:t>
            </a:r>
            <a:r>
              <a:rPr b="1" lang="tr-TR" sz="20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tr-TR" sz="20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tr-TR" sz="20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tr-TR" sz="20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tr-TR" sz="2000" spc="-1" strike="noStrike" u="sng">
                <a:solidFill>
                  <a:srgbClr val="ff3300"/>
                </a:solidFill>
                <a:uFillTx/>
                <a:latin typeface="Tahoma"/>
              </a:rPr>
              <a:t>YANLIŞ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TRT’nin 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TRT’den 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TRT’ye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ff3300"/>
                </a:solidFill>
                <a:latin typeface="Tahoma"/>
              </a:rPr>
              <a:t>TRT’nu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İDO’nun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İDO’dan 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İDO’ya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ff3300"/>
                </a:solidFill>
                <a:latin typeface="Tahoma"/>
              </a:rPr>
              <a:t>İDO’n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İTÜ’nün 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İTÜ’den 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İTÜ’ye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ff3300"/>
                </a:solidFill>
                <a:latin typeface="Tahoma"/>
              </a:rPr>
              <a:t>İTÜ’nd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MEB’in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MEB’den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MEB’e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ff3300"/>
                </a:solidFill>
                <a:latin typeface="Tahoma"/>
              </a:rPr>
              <a:t>MEB’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ABD’nin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ABD’den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ABD’ye</a:t>
            </a:r>
            <a:r>
              <a:rPr b="0" lang="tr-TR" sz="20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ff3300"/>
                </a:solidFill>
                <a:latin typeface="Tahoma"/>
              </a:rPr>
              <a:t>ABD’nd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0T19:10:37Z</dcterms:created>
  <dc:creator>SUAT NACİ / BAKIRKÖY FEM</dc:creator>
  <dc:description/>
  <cp:keywords>EYLÜL ERGUVAN YALOVA DENİZ</cp:keywords>
  <dc:language>en-US</dc:language>
  <cp:lastModifiedBy>Emrah</cp:lastModifiedBy>
  <dcterms:modified xsi:type="dcterms:W3CDTF">2009-11-04T22:10:35Z</dcterms:modified>
  <cp:revision>31</cp:revision>
  <dc:subject>YAZIM KURALLARI</dc:subject>
  <dc:title>GENEL TEKRAR DERSLERİ</dc:title>
</cp:coreProperties>
</file>